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4EB4-C40E-49D4-91F7-9E2288AC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27B4-7554-4F5A-BE7C-E8C72745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003-4C01-4B0C-A7FE-F4C4D3EE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370-4D70-48D4-92B1-63FAC86E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7960-10DE-4D57-87FF-5FFB7D2D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1064-C135-4561-AAFC-27C95737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4A66-33A9-4311-A5E5-2C03F88A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CFC1-1887-4ABB-8F5A-A6E0DFAE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979E-630E-4D04-9B47-D2BF9EF9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F0D6-DCC4-4CA1-8DC8-9A3E06F3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23FB-A461-4568-A0D4-AA80FDE2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08BB-77C9-404C-932A-7A972678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3341-3C46-4C78-8819-B3DF5031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CA9E-FB00-4314-BE86-3DB22011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E145-C749-450D-912B-D92AF43E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5558-B4F0-43AF-BE5C-AB4A390A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CEFB-8D90-466C-BC73-FCF8C66A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8104-FEA6-4065-B112-E571B987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9036-4F69-42E4-BB8D-FE0EF5A2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EAA6-CE92-406F-8DEA-D4551505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8EF1-DAF1-4F48-8856-73D62B0A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FF1-2B2C-4E9A-9B7D-8706DCAB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CED-88E6-4361-A3E4-96CC84CD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676-6192-44B9-BF55-F8BCED09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ABE5-F679-4840-97B9-116134E0E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B4B9-B58E-4BCE-A2C4-56738501F32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4000" y="1916280"/>
            <a:ext cx="4968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4788000" y="5373720"/>
            <a:ext cx="42116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да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Верх-Жилинская О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тайский край Косих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хема 1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77708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3850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Роль силы трения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 при ходьб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4d40f1a140561141a1e63b5bd0422b77.jpg.jpg"/>
          <p:cNvPicPr/>
          <p:nvPr/>
        </p:nvPicPr>
        <p:blipFill>
          <a:blip r:embed="rId2"/>
          <a:stretch/>
        </p:blipFill>
        <p:spPr>
          <a:xfrm>
            <a:off x="5435640" y="1341360"/>
            <a:ext cx="2747880" cy="36561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1979640" y="5157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агодаря трению вьющиеся растения цепляются за находящиеся поблизости опоры, удерживаются и тянутся к св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6" descr="горох2.jpg"/>
          <p:cNvPicPr/>
          <p:nvPr/>
        </p:nvPicPr>
        <p:blipFill>
          <a:blip r:embed="rId3"/>
          <a:stretch/>
        </p:blipFill>
        <p:spPr>
          <a:xfrm>
            <a:off x="971640" y="1844640"/>
            <a:ext cx="386712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45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19235022.jpg"/>
          <p:cNvPicPr/>
          <p:nvPr/>
        </p:nvPicPr>
        <p:blipFill>
          <a:blip r:embed="rId2"/>
          <a:stretch/>
        </p:blipFill>
        <p:spPr>
          <a:xfrm>
            <a:off x="755640" y="1413000"/>
            <a:ext cx="3597120" cy="26352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morkovv.jpg"/>
          <p:cNvPicPr/>
          <p:nvPr/>
        </p:nvPicPr>
        <p:blipFill>
          <a:blip r:embed="rId3"/>
          <a:stretch/>
        </p:blipFill>
        <p:spPr>
          <a:xfrm>
            <a:off x="4859280" y="1341360"/>
            <a:ext cx="3319560" cy="40147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1619280" y="54738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ла трения о грунт корнеплодов способствует удержанию растения в поч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47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ArctiumLappa3.jpg"/>
          <p:cNvPicPr/>
          <p:nvPr/>
        </p:nvPicPr>
        <p:blipFill>
          <a:blip r:embed="rId2"/>
          <a:stretch/>
        </p:blipFill>
        <p:spPr>
          <a:xfrm>
            <a:off x="762120" y="1413000"/>
            <a:ext cx="3608280" cy="2952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4643280" y="1645560"/>
            <a:ext cx="450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растениям, как репейник, трение помогает распространять семена, имеющие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юч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небольшими крючками на кон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верх 6"/>
          <p:cNvSpPr/>
          <p:nvPr/>
        </p:nvSpPr>
        <p:spPr>
          <a:xfrm>
            <a:off x="3780000" y="2492280"/>
            <a:ext cx="215640" cy="3313080"/>
          </a:xfrm>
          <a:prstGeom prst="upArrow">
            <a:avLst>
              <a:gd name="adj1" fmla="val 50000"/>
              <a:gd name="adj2" fmla="val 500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132000" y="5877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ю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2" descr="180282_384648.jpg"/>
          <p:cNvPicPr/>
          <p:nvPr/>
        </p:nvPicPr>
        <p:blipFill>
          <a:blip r:embed="rId2"/>
          <a:stretch/>
        </p:blipFill>
        <p:spPr>
          <a:xfrm>
            <a:off x="324000" y="1268280"/>
            <a:ext cx="4259160" cy="31086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Zwierzeta_7_1280x720_1245.jpg"/>
          <p:cNvPicPr/>
          <p:nvPr/>
        </p:nvPicPr>
        <p:blipFill>
          <a:blip r:embed="rId3"/>
          <a:stretch/>
        </p:blipFill>
        <p:spPr>
          <a:xfrm>
            <a:off x="3995640" y="2349360"/>
            <a:ext cx="4316400" cy="24274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1908000" y="5084640"/>
            <a:ext cx="66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е органов хватания у животных (конечности, хобот слона ) связано с трением. Предмет тем прочнее будет схвачен, чем больше сила трения между органом хватания и предм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в техн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2" descr="механизм.jpeg"/>
          <p:cNvPicPr/>
          <p:nvPr/>
        </p:nvPicPr>
        <p:blipFill>
          <a:blip r:embed="rId2"/>
          <a:stretch/>
        </p:blipFill>
        <p:spPr>
          <a:xfrm>
            <a:off x="250920" y="1052640"/>
            <a:ext cx="4208400" cy="3159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двигатель авто.jpg"/>
          <p:cNvPicPr/>
          <p:nvPr/>
        </p:nvPicPr>
        <p:blipFill>
          <a:blip r:embed="rId3"/>
          <a:stretch/>
        </p:blipFill>
        <p:spPr>
          <a:xfrm>
            <a:off x="4248000" y="1630440"/>
            <a:ext cx="4705560" cy="352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1476360" y="515772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сех машинах из-за трения нагреваются и изнашиваются движущиеся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35280" y="-360"/>
            <a:ext cx="534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Подшипни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шариковый подшипник.jpg"/>
          <p:cNvPicPr/>
          <p:nvPr/>
        </p:nvPicPr>
        <p:blipFill>
          <a:blip r:embed="rId2"/>
          <a:stretch/>
        </p:blipFill>
        <p:spPr>
          <a:xfrm>
            <a:off x="576360" y="762120"/>
            <a:ext cx="2158920" cy="325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1727280" y="519444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клады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деталь подшипника, непосредственно соприкасающаяся с в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верх 4"/>
          <p:cNvSpPr/>
          <p:nvPr/>
        </p:nvSpPr>
        <p:spPr>
          <a:xfrm>
            <a:off x="1619280" y="3213000"/>
            <a:ext cx="73080" cy="2016360"/>
          </a:xfrm>
          <a:prstGeom prst="upArrow">
            <a:avLst>
              <a:gd name="adj1" fmla="val 50000"/>
              <a:gd name="adj2" fmla="val 4994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4067280" y="1268280"/>
            <a:ext cx="324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шипники помогают уменьшит силу трения в десятки раз за счет замены трения качения трением сколь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6" descr="1329957657_9.jpg"/>
          <p:cNvPicPr/>
          <p:nvPr/>
        </p:nvPicPr>
        <p:blipFill>
          <a:blip r:embed="rId3"/>
          <a:stretch/>
        </p:blipFill>
        <p:spPr>
          <a:xfrm>
            <a:off x="6443640" y="3573360"/>
            <a:ext cx="2160720" cy="2913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3419640" y="3573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риковый подши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3419640" y="4724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ликовый подши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Двойная стрелка влево/вправо 9"/>
          <p:cNvSpPr/>
          <p:nvPr/>
        </p:nvSpPr>
        <p:spPr>
          <a:xfrm>
            <a:off x="2700360" y="3716280"/>
            <a:ext cx="719280" cy="7308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Двойная стрелка влево/вправо 11"/>
          <p:cNvSpPr/>
          <p:nvPr/>
        </p:nvSpPr>
        <p:spPr>
          <a:xfrm>
            <a:off x="6156360" y="4869000"/>
            <a:ext cx="1079640" cy="144360"/>
          </a:xfrm>
          <a:prstGeom prst="leftRightArrow">
            <a:avLst>
              <a:gd name="adj1" fmla="val 50000"/>
              <a:gd name="adj2" fmla="val 5003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закреп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03280" y="1267920"/>
            <a:ext cx="7283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ля чего смычок перед игрой натирают канифолью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медицинские иглы полирую до зеркального блеск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полировка и шлифовка соприкасающихся деталей уменьшает силу трения? Будет ли уменьшена сила трения, если поверхности деталей отполировать идеальн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какой целью швейные иголки полируют до блеска? Удобно ли шить заржавленной иголк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вагоне поезда на столике лежат книга и мяч. Поезд тронулся с места. Что при этом произойдет с мячом и книг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гоночных велосипедов руль низко опущен.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живую рыбу трудно держать в руках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уемые 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58920" y="134136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kn.sobaka.ru/n35/05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et-mash.ru/index.php?file=pod_kachen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fotodnya.net/fashion/kartinki-treniy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octitesolutions.com/index.php?FOLDERID=294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home-edu.ru/user/f/00001491/Les_18N/Htm_18/Les18_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youtube.com/watch?v=TISWVsXINFo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fppt.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280" y="2133720"/>
            <a:ext cx="746748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знакомить учащихся с силой трени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казать роль силы трения в природе  и техник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Users\Вера\AppData\Local\Microsoft\Windows\Temporary Internet Files\Content.IE5\6JNNS02V\MC900435839[1].wmf"/>
          <p:cNvPicPr/>
          <p:nvPr/>
        </p:nvPicPr>
        <p:blipFill>
          <a:blip r:embed="rId2"/>
          <a:stretch/>
        </p:blipFill>
        <p:spPr>
          <a:xfrm>
            <a:off x="468360" y="620640"/>
            <a:ext cx="3527280" cy="35290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4427640" y="1844640"/>
            <a:ext cx="403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нки, скатившись с горы, через некоторое время останавливаются. Это значит, что на тело действовала сила. При соприкосновении одного тела с другим возникает взаимодействие, которое называют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тр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763640" y="404640"/>
            <a:ext cx="56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ила, возникающая при взаимодействии поверхности одного тела с поверхностью другого, когда тела неподвижны или перемещаются относительно друг друга, назы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2" descr=""/>
          <p:cNvPicPr/>
          <p:nvPr/>
        </p:nvPicPr>
        <p:blipFill>
          <a:blip r:embed="rId2"/>
          <a:stretch/>
        </p:blipFill>
        <p:spPr>
          <a:xfrm>
            <a:off x="96840" y="4572000"/>
            <a:ext cx="8881920" cy="1749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684360" y="33336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73"/>
                </a:solidFill>
                <a:latin typeface="Arial"/>
              </a:rPr>
              <a:t>Причина возникновения силы т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surface_irregular_s.jpg"/>
          <p:cNvPicPr/>
          <p:nvPr/>
        </p:nvPicPr>
        <p:blipFill>
          <a:blip r:embed="rId2"/>
          <a:stretch/>
        </p:blipFill>
        <p:spPr>
          <a:xfrm>
            <a:off x="1042920" y="1916280"/>
            <a:ext cx="2737080" cy="2052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7"/>
          <p:cNvSpPr/>
          <p:nvPr/>
        </p:nvSpPr>
        <p:spPr>
          <a:xfrm>
            <a:off x="1490760" y="428472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ровность поверх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8" descr="prichina2.jpg"/>
          <p:cNvPicPr/>
          <p:nvPr/>
        </p:nvPicPr>
        <p:blipFill>
          <a:blip r:embed="rId3"/>
          <a:stretch/>
        </p:blipFill>
        <p:spPr>
          <a:xfrm>
            <a:off x="4859280" y="2060640"/>
            <a:ext cx="3465720" cy="1800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9"/>
          <p:cNvSpPr/>
          <p:nvPr/>
        </p:nvSpPr>
        <p:spPr>
          <a:xfrm>
            <a:off x="4427640" y="436572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тяж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лек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324000" y="24210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ка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763640" y="4149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сколь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932360" y="24210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поко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5" descr=""/>
          <p:cNvPicPr/>
          <p:nvPr/>
        </p:nvPicPr>
        <p:blipFill>
          <a:blip r:embed="rId2"/>
          <a:stretch/>
        </p:blipFill>
        <p:spPr>
          <a:xfrm>
            <a:off x="1395360" y="665280"/>
            <a:ext cx="6767640" cy="1455480"/>
          </a:xfrm>
          <a:prstGeom prst="rect">
            <a:avLst/>
          </a:prstGeom>
          <a:ln w="0">
            <a:noFill/>
          </a:ln>
        </p:spPr>
      </p:pic>
      <p:sp>
        <p:nvSpPr>
          <p:cNvPr id="99" name="Стрелка вниз 6"/>
          <p:cNvSpPr/>
          <p:nvPr/>
        </p:nvSpPr>
        <p:spPr>
          <a:xfrm>
            <a:off x="2771640" y="1700280"/>
            <a:ext cx="287640" cy="649080"/>
          </a:xfrm>
          <a:prstGeom prst="downArrow">
            <a:avLst>
              <a:gd name="adj1" fmla="val 50000"/>
              <a:gd name="adj2" fmla="val 4992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низ 7"/>
          <p:cNvSpPr/>
          <p:nvPr/>
        </p:nvSpPr>
        <p:spPr>
          <a:xfrm>
            <a:off x="6156360" y="1628640"/>
            <a:ext cx="287280" cy="72072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низ 8"/>
          <p:cNvSpPr/>
          <p:nvPr/>
        </p:nvSpPr>
        <p:spPr>
          <a:xfrm>
            <a:off x="4500720" y="1773360"/>
            <a:ext cx="287280" cy="22320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сколь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2" descr="лыжник.jpg"/>
          <p:cNvPicPr/>
          <p:nvPr/>
        </p:nvPicPr>
        <p:blipFill>
          <a:blip r:embed="rId2"/>
          <a:stretch/>
        </p:blipFill>
        <p:spPr>
          <a:xfrm>
            <a:off x="1568520" y="1603440"/>
            <a:ext cx="3235320" cy="34812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5508720" y="1628640"/>
            <a:ext cx="309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тело скользит по поверхности другого, то возникающую силу называют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силой трения сколь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ка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364000" y="1484280"/>
            <a:ext cx="324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тело катится по поверхности другого, то силу возникающую при этом называют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силой трения ка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03-07.gif"/>
          <p:cNvPicPr/>
          <p:nvPr/>
        </p:nvPicPr>
        <p:blipFill>
          <a:blip r:embed="rId2"/>
          <a:srcRect l="12784" t="1795" r="0" b="0"/>
          <a:stretch/>
        </p:blipFill>
        <p:spPr>
          <a:xfrm>
            <a:off x="1403280" y="1484280"/>
            <a:ext cx="375120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поко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45602132.jpg"/>
          <p:cNvPicPr/>
          <p:nvPr/>
        </p:nvPicPr>
        <p:blipFill>
          <a:blip r:embed="rId2"/>
          <a:stretch/>
        </p:blipFill>
        <p:spPr>
          <a:xfrm>
            <a:off x="1187280" y="1484280"/>
            <a:ext cx="3333960" cy="27241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5292720" y="1773360"/>
            <a:ext cx="295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пытке сдвинуть тело с места, оно не сразу изменит свою скорость, так как действующая на тело сила уравновешивается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силой трения пок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44:30Z</dcterms:created>
  <dc:creator/>
  <dc:description/>
  <dc:language>en-US</dc:language>
  <cp:lastModifiedBy>Мама</cp:lastModifiedBy>
  <dcterms:modified xsi:type="dcterms:W3CDTF">2013-07-29T11:06:46Z</dcterms:modified>
  <cp:revision>47</cp:revision>
  <dc:subject/>
  <dc:title>Сила трения</dc:title>
</cp:coreProperties>
</file>